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9CB-AC90-418C-AA32-93451924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CC1-69B4-4B2C-A9D0-6C317C6C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719-567E-4220-BE9D-5B28CF96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38A-6B2D-42FA-94C2-DE9880DE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6FD4-28E3-4CFF-8A82-7B7CC9BC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FF1C-FBC2-46C2-9327-8B1AEB7A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28A1-EFF1-4932-B1F2-1710EEAC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266E-24D1-4FC0-A6C0-B7D64F9D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628-BF9D-40AD-8BF5-263DF42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4D6E-6051-429D-A2E9-774B9B3B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9603-74E3-4F96-832E-59AC1055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75B-B322-4B23-ACEF-D9AF0C3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986C-37E8-4E91-9894-302F0DF0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6BE-AD63-449A-B72E-87F56DBB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4060-1D32-4ED9-A768-377BECB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42C3-E8F2-49CD-B028-B068D4DE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B6B3-6B78-4B6C-A5BE-D74B5943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75B-24E9-44DE-B075-D2333AFD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0FE-EF2F-4D0F-BD26-06780D03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57D-EE70-4CD3-BE03-A29EF08D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FAD-086D-46D1-9FC1-7798F716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577-E2F5-49FF-B299-B23ECD4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6DB-BAEE-483D-8EBF-74B66AA0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962-1D16-4231-9C09-73D006B7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EC0-F3BD-4D3E-B27D-BB5CE2EA075B}" type="datetime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4FA8-A171-4B5E-BD0B-BA83A0373F7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4B19-AE24-41BF-AF6E-2992CD3A24DE}" type="datetime">
              <a:rPr b="0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9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E5A-7368-47FD-8A7F-33F8C0DC2B72}" type="slidenum">
              <a:rPr b="0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129"/>
          <p:cNvSpPr/>
          <p:nvPr/>
        </p:nvSpPr>
        <p:spPr>
          <a:xfrm>
            <a:off x="1676520" y="2438280"/>
            <a:ext cx="5943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7  Summer Pla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图片 5132" descr="Group_Discussion"/>
          <p:cNvPicPr/>
          <p:nvPr/>
        </p:nvPicPr>
        <p:blipFill>
          <a:blip r:embed="rId1"/>
          <a:stretch/>
        </p:blipFill>
        <p:spPr>
          <a:xfrm>
            <a:off x="4267080" y="3733920"/>
            <a:ext cx="2881440" cy="20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6392"/>
          <p:cNvSpPr/>
          <p:nvPr/>
        </p:nvSpPr>
        <p:spPr>
          <a:xfrm>
            <a:off x="533520" y="1053720"/>
            <a:ext cx="7589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want to keep learnin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一直学习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16395"/>
          <p:cNvSpPr/>
          <p:nvPr/>
        </p:nvSpPr>
        <p:spPr>
          <a:xfrm>
            <a:off x="731880" y="2367000"/>
            <a:ext cx="79549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ep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直做某事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keep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后跟动词时一定要用现在分词的形式，类似的有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nish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做完某事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joy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享受做某事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actice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练习做某事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fun doing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做某事快乐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581280" y="762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37893"/>
          <p:cNvSpPr/>
          <p:nvPr/>
        </p:nvSpPr>
        <p:spPr>
          <a:xfrm>
            <a:off x="1066680" y="1447920"/>
            <a:ext cx="7239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上钢琴课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ant to _____ piano _______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对这个消息都感到很兴奋。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y are all _______ ______ the new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雨下了一天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______ ________ for a da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文本框 37894"/>
          <p:cNvSpPr/>
          <p:nvPr/>
        </p:nvSpPr>
        <p:spPr>
          <a:xfrm>
            <a:off x="2743200" y="266688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文本框 37899"/>
          <p:cNvSpPr/>
          <p:nvPr/>
        </p:nvSpPr>
        <p:spPr>
          <a:xfrm>
            <a:off x="3124080" y="373392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文本框 37900"/>
          <p:cNvSpPr/>
          <p:nvPr/>
        </p:nvSpPr>
        <p:spPr>
          <a:xfrm>
            <a:off x="1752480" y="4800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eep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文本框 37901"/>
          <p:cNvSpPr/>
          <p:nvPr/>
        </p:nvSpPr>
        <p:spPr>
          <a:xfrm>
            <a:off x="2666880" y="480060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矩形 37907"/>
          <p:cNvSpPr/>
          <p:nvPr/>
        </p:nvSpPr>
        <p:spPr>
          <a:xfrm>
            <a:off x="4267080" y="373392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矩形 37914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ss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3796"/>
          <p:cNvSpPr/>
          <p:nvPr/>
        </p:nvSpPr>
        <p:spPr>
          <a:xfrm>
            <a:off x="2825640" y="1293840"/>
            <a:ext cx="327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4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26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7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8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0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1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2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3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24" name="文本框 33897"/>
          <p:cNvSpPr/>
          <p:nvPr/>
        </p:nvSpPr>
        <p:spPr>
          <a:xfrm>
            <a:off x="685800" y="2774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对暑假有很多期盼吧！你想在暑假做什么呢？写出来和大家分享一下吧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66567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The early bird catches the worm.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早起的鸟儿有虫吃。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26" name="图片 6656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657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143000" y="274320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have any plans for the summer holiday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do you want to do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49"/>
          <p:cNvSpPr/>
          <p:nvPr/>
        </p:nvSpPr>
        <p:spPr>
          <a:xfrm>
            <a:off x="3505320" y="5456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57" descr="u=888578322,4073571781&amp;fm=52&amp;gp=0"/>
          <p:cNvPicPr/>
          <p:nvPr/>
        </p:nvPicPr>
        <p:blipFill>
          <a:blip r:embed="rId1"/>
          <a:srcRect l="0" t="0" r="0" b="9332"/>
          <a:stretch/>
        </p:blipFill>
        <p:spPr>
          <a:xfrm>
            <a:off x="1752480" y="2057400"/>
            <a:ext cx="579132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8131"/>
          <p:cNvSpPr/>
          <p:nvPr/>
        </p:nvSpPr>
        <p:spPr>
          <a:xfrm>
            <a:off x="3124080" y="5380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iji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ivers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48144" descr="u=1987826675,3598484221&amp;fm=23&amp;gp=0"/>
          <p:cNvPicPr/>
          <p:nvPr/>
        </p:nvPicPr>
        <p:blipFill>
          <a:blip r:embed="rId1"/>
          <a:stretch/>
        </p:blipFill>
        <p:spPr>
          <a:xfrm>
            <a:off x="1371600" y="1219320"/>
            <a:ext cx="60958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49159"/>
          <p:cNvSpPr/>
          <p:nvPr/>
        </p:nvSpPr>
        <p:spPr>
          <a:xfrm>
            <a:off x="3048120" y="5410080"/>
            <a:ext cx="39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ke swimming less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49165" descr="u=922480176,3407970421&amp;fm=52&amp;gp=0"/>
          <p:cNvPicPr/>
          <p:nvPr/>
        </p:nvPicPr>
        <p:blipFill>
          <a:blip r:embed="rId1"/>
          <a:stretch/>
        </p:blipFill>
        <p:spPr>
          <a:xfrm>
            <a:off x="1447920" y="129528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53251"/>
          <p:cNvSpPr/>
          <p:nvPr/>
        </p:nvSpPr>
        <p:spPr>
          <a:xfrm>
            <a:off x="3048120" y="5410080"/>
            <a:ext cx="39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ve in the countrysi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图片 53253" descr="u=1377600796,2809223992&amp;fm=23&amp;gp=0"/>
          <p:cNvPicPr/>
          <p:nvPr/>
        </p:nvPicPr>
        <p:blipFill>
          <a:blip r:embed="rId1"/>
          <a:stretch/>
        </p:blipFill>
        <p:spPr>
          <a:xfrm>
            <a:off x="1752480" y="121932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4337"/>
          <p:cNvSpPr/>
          <p:nvPr/>
        </p:nvSpPr>
        <p:spPr>
          <a:xfrm>
            <a:off x="1066680" y="12193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write T or F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矩形 14348"/>
          <p:cNvSpPr/>
          <p:nvPr/>
        </p:nvSpPr>
        <p:spPr>
          <a:xfrm>
            <a:off x="457200" y="2057400"/>
            <a:ext cx="80010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1. It’s the last day for Ms. Liu’s clas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 2. The students are talking about their summer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la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(       ) 3. Ms. Liu will rest in the summer holida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文本框 14349"/>
          <p:cNvSpPr/>
          <p:nvPr/>
        </p:nvSpPr>
        <p:spPr>
          <a:xfrm>
            <a:off x="14608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文本框 14351"/>
          <p:cNvSpPr/>
          <p:nvPr/>
        </p:nvSpPr>
        <p:spPr>
          <a:xfrm>
            <a:off x="1601640" y="4419720"/>
            <a:ext cx="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文本框 14352"/>
          <p:cNvSpPr/>
          <p:nvPr/>
        </p:nvSpPr>
        <p:spPr>
          <a:xfrm>
            <a:off x="1525680" y="3276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50180"/>
          <p:cNvSpPr/>
          <p:nvPr/>
        </p:nvSpPr>
        <p:spPr>
          <a:xfrm>
            <a:off x="1219320" y="685800"/>
            <a:ext cx="647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and fill in the table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文本框 50193"/>
          <p:cNvSpPr/>
          <p:nvPr/>
        </p:nvSpPr>
        <p:spPr>
          <a:xfrm>
            <a:off x="3124080" y="25909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rk at the librar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1666800"/>
          <a:ext cx="7162920" cy="4276800"/>
        </p:xfrm>
        <a:graphic>
          <a:graphicData uri="http://schemas.openxmlformats.org/drawingml/2006/table">
            <a:tbl>
              <a:tblPr/>
              <a:tblGrid>
                <a:gridCol w="1828800"/>
                <a:gridCol w="533412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ames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1368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ns for the summer holiday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1368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Wang Mei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ao Xiaolin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Yi Han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57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Li Ming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cc"/>
                      </a:solidFill>
                    </a:lnL>
                    <a:lnR w="576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368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cc"/>
                      </a:solidFill>
                    </a:lnL>
                    <a:lnR w="13680">
                      <a:solidFill>
                        <a:srgbClr val="6600cc"/>
                      </a:solidFill>
                    </a:lnR>
                    <a:lnT w="5760">
                      <a:solidFill>
                        <a:srgbClr val="6600cc"/>
                      </a:solidFill>
                    </a:lnT>
                    <a:lnB w="1368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文本框 50265"/>
          <p:cNvSpPr/>
          <p:nvPr/>
        </p:nvSpPr>
        <p:spPr>
          <a:xfrm>
            <a:off x="3124080" y="3398760"/>
            <a:ext cx="32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vel to Germany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文本框 50266"/>
          <p:cNvSpPr/>
          <p:nvPr/>
        </p:nvSpPr>
        <p:spPr>
          <a:xfrm>
            <a:off x="3048120" y="4313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ke swimming less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文本框 50267"/>
          <p:cNvSpPr/>
          <p:nvPr/>
        </p:nvSpPr>
        <p:spPr>
          <a:xfrm>
            <a:off x="2971800" y="51055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ve with a family in the countrysid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5361"/>
          <p:cNvSpPr/>
          <p:nvPr/>
        </p:nvSpPr>
        <p:spPr>
          <a:xfrm>
            <a:off x="685800" y="160020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’m going to read storybooks to young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ildren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打算给小孩们读故事。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15362"/>
          <p:cNvSpPr/>
          <p:nvPr/>
        </p:nvSpPr>
        <p:spPr>
          <a:xfrm>
            <a:off x="762120" y="2666880"/>
            <a:ext cx="777240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sth. to sb.=read sb.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给某人读某物。注意翻译时与汉语的区别，“看书”不能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也不能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a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类似的有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报纸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newspapers;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查阅地图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a map;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电视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atch TV;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信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a lett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文本框 15369"/>
          <p:cNvSpPr/>
          <p:nvPr/>
        </p:nvSpPr>
        <p:spPr>
          <a:xfrm>
            <a:off x="762120" y="8380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图片 15370" descr="3"/>
          <p:cNvPicPr/>
          <p:nvPr/>
        </p:nvPicPr>
        <p:blipFill>
          <a:blip r:embed="rId1"/>
          <a:stretch/>
        </p:blipFill>
        <p:spPr>
          <a:xfrm>
            <a:off x="647712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42:54Z</dcterms:created>
  <dc:creator/>
  <dc:description/>
  <dc:language>en-US</dc:language>
  <cp:lastModifiedBy>Administrator</cp:lastModifiedBy>
  <dcterms:modified xsi:type="dcterms:W3CDTF">2019-01-02T01:44:08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